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4C4B-A92D-4508-815A-4B73D459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BBE-B383-4B32-A076-2060A497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EF6D-4739-48EB-89C5-8E2C5DE5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DD7-F5E2-4340-B687-1782DF10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8ED5-C5D4-48DB-A2FA-1E54418C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3EEA-F4BD-48B9-9387-8FBA5AD5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FBBE-07ED-49F9-93DC-B7AED636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A384-8F4B-4AE4-894C-16F795EA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B170-6C73-4343-A50D-9B5FAAEC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2ED9-80A8-402A-B1F7-5C532648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C3ED-0594-4347-8631-56A92215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64B6-8BDA-462C-A14E-31B0887B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94EC-DC31-4417-9A1C-AF3D7792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3C3D-4881-4E22-ACDD-ED996461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68CD-CA44-49E0-B287-4ECF1840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D1B2-CF9E-4DF6-89A8-3E6739BD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5F2E-ADBD-49DF-B124-DE6BFA8E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A7A-1DFB-4A37-A4F8-F333DE19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F45B-63D6-41A5-BB51-4A051648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83B6-2501-463F-8A48-2061CAE7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C58-32F9-4E35-BA07-DD64FC60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7C0D-26FD-4315-A3CF-8EC7D1D2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C66-A070-47AA-A065-009B9880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F6F-641C-48F2-A90F-CA08D43E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D429-BC18-40DA-A0B4-E68DA4A03D6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7D8F-F641-4872-8F76-16FE4503441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05080" y="1828800"/>
            <a:ext cx="625788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241020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tr-TR" sz="3200" spc="-1" strike="noStrike">
                <a:solidFill>
                  <a:srgbClr val="000000"/>
                </a:solidFill>
                <a:latin typeface="Comic Sans MS"/>
              </a:rPr>
              <a:t>Okumak adlandırmaktı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000000"/>
                </a:solidFill>
                <a:latin typeface="Comic Sans MS"/>
              </a:rPr>
              <a:t>dinlemek ise yalnızca bir dili algılamak değil, </a:t>
            </a:r>
            <a:r>
              <a:rPr b="1" i="1" lang="tr-TR" sz="3200" spc="-1" strike="noStrike">
                <a:solidFill>
                  <a:srgbClr val="000000"/>
                </a:solidFill>
                <a:latin typeface="Arial"/>
              </a:rPr>
              <a:t>aynı zamanda onu kurmaktı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000000"/>
                </a:solidFill>
                <a:latin typeface="Arial"/>
              </a:rPr>
              <a:t>Barthes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17160" y="2927880"/>
            <a:ext cx="845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kumayı öğrenme sanatların en gücüdü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Goe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93160" y="1212840"/>
            <a:ext cx="56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odoni MT"/>
              </a:rPr>
              <a:t>OKUMANIN AMAÇL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476360" y="1484280"/>
            <a:ext cx="429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doni MT"/>
              </a:rPr>
              <a:t>Saplantılardan arınmış bir düşünme alışkanlığının kazandırılmas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755800" y="3246480"/>
            <a:ext cx="210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324000" y="134136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doni M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doni MT"/>
              </a:rPr>
              <a:t>Eleştirel bakışın uyandırılmas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042920" y="981000"/>
            <a:ext cx="5254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doni MT"/>
              </a:rPr>
              <a:t>Çok yönlü düşünmenin öğretilmesi. Başka deyişle bir sorunun tek bir bakış açısından değil de çeşitli açılardan ele alınıp değerlendirilmes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76360" y="30805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585440" cy="7532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84160" y="1700280"/>
            <a:ext cx="5157720" cy="1923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doni MT"/>
              </a:rPr>
              <a:t>Düş gücünün geliştirilmesi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OKUMAMA NEDENLERİ 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547640" y="213372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akit bulama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itapların pahalılığ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kunacak bir şey bulamam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69608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ek de geçerliliği olmayan, deyim                 yerindeyse sudan bahaneler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5280" y="2781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KUMAMAYA DEĞİL,OKUMAYA BAHANELER ÜRETELİ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Uygar toplumlarda bireyin kendi uğraş alanında ilerlemesi,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önemli görevlere, yetkilere yükselmesi,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gelişmiş bir okuma yetisi aracılığıyla kazandığı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bilgi birikiminin sonucudur.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Okumak insanı olgunlaştırır, konuşmak ustalaştırır,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yazmak ise daha somut bir bilgi sağlar.”                                                                                                                                                 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    Bac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tr-TR" sz="3600" spc="-1" strike="noStrike">
                <a:solidFill>
                  <a:srgbClr val="000000"/>
                </a:solidFill>
                <a:latin typeface="Comic Sans MS"/>
              </a:rPr>
              <a:t>İnsanlığı yönetebilecek olanlar, </a:t>
            </a:r>
            <a:br>
              <a:rPr sz="3600"/>
            </a:br>
            <a:r>
              <a:rPr b="1" i="1" lang="tr-TR" sz="3600" spc="-1" strike="noStrike">
                <a:solidFill>
                  <a:srgbClr val="000000"/>
                </a:solidFill>
                <a:latin typeface="Comic Sans MS"/>
              </a:rPr>
              <a:t>okuma yazma gücüne sahip olanlardır.”</a:t>
            </a:r>
            <a:br>
              <a:rPr sz="3600"/>
            </a:br>
            <a:r>
              <a:rPr b="1" i="1" lang="tr-TR" sz="3600" spc="-1" strike="noStrike">
                <a:solidFill>
                  <a:srgbClr val="000000"/>
                </a:solidFill>
                <a:latin typeface="Comic Sans MS"/>
              </a:rPr>
              <a:t>Voltai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19280" y="1701360"/>
            <a:ext cx="619272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tr-TR" sz="3600" spc="-1" strike="noStrike">
                <a:solidFill>
                  <a:srgbClr val="000000"/>
                </a:solidFill>
                <a:latin typeface="Comic Sans MS"/>
              </a:rPr>
              <a:t>Okuma tutkuların en soylusud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600" spc="-1" strike="noStrike">
                <a:solidFill>
                  <a:srgbClr val="000000"/>
                </a:solidFill>
                <a:latin typeface="Comic Sans MS"/>
              </a:rPr>
              <a:t>Ekmek nasıl bedeni beslerse o da öylece ruhu besler 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1" i="1" lang="tr-TR" sz="3600" spc="-1" strike="noStrike">
                <a:solidFill>
                  <a:srgbClr val="000000"/>
                </a:solidFill>
                <a:latin typeface="Comic Sans MS"/>
              </a:rPr>
              <a:t>Albal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0:23:59Z</dcterms:created>
  <dc:creator>kayatepe</dc:creator>
  <dc:description/>
  <dc:language>en-US</dc:language>
  <cp:lastModifiedBy>kayatepe</cp:lastModifiedBy>
  <dcterms:modified xsi:type="dcterms:W3CDTF">2011-05-03T06:18:48Z</dcterms:modified>
  <cp:revision>6</cp:revision>
  <dc:subject/>
  <dc:title>OKUMAMA NEDENLERİ :</dc:title>
</cp:coreProperties>
</file>